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1CB0D-68C9-47F8-A80B-97F863D15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D8F07-8DE0-42CF-B3BA-11849F0B6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924AC-A8B1-4F58-8D1E-1C31F3C27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9982E-BEB8-4DA1-849C-4826F3512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A04BE7-26F6-4FFA-A431-7AF737F848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FBABE-7874-4EC7-B39E-D3E2D5648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88516-D47B-44F5-BB8E-713B21DFA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599D7-2EF0-4165-BE20-AB3A011F3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6C371-1955-4E3B-AE37-E41728D39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67068-38C2-454B-BB12-7B66C6844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E4BCB-9A07-46CD-8829-0090B0308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0851C-1408-43BA-8CB1-A9992DEA9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A82A5-7800-4E85-B70A-34748564F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05DD0-E9C9-40CF-A493-E4CDB3C3B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2E2E6-B1D3-4570-95CA-5D1FB75FB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1B8536-DFF7-4C23-8727-E2DE2BD99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BD94F1-7A77-48FF-9507-64A26A9008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0AEBE-F2DE-4A1C-96BC-2DAE66003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05130-D37F-4ED2-A16E-23D7C3B3A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9EAE8-31EE-46ED-83F3-5249BC599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8C000-A26E-4146-A1E2-57F16900E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AC827-6F8A-46C6-9226-42D6B4737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60FCB-435B-432A-8AD6-4548FADC3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7E849-086E-4E61-87B1-492677792F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AABC9-4976-4EDE-A4F1-676E031B518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71752-C54B-4C30-A0AE-79A91E84FDE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Unit Plan Presentation</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une Mario C. Tolitol</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m Marie O. Kiunisa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urriculum-Framing Questions </a:t>
            </a:r>
            <a:endParaRPr b="1" lang="en-US" sz="3900" spc="-1" strike="noStrike">
              <a:solidFill>
                <a:srgbClr val="330066"/>
              </a:solidFill>
              <a:latin typeface="Arial"/>
            </a:endParaRPr>
          </a:p>
        </p:txBody>
      </p:sp>
      <p:sp>
        <p:nvSpPr>
          <p:cNvPr id="168" name="PlaceHolder 2"/>
          <p:cNvSpPr>
            <a:spLocks noGrp="1"/>
          </p:cNvSpPr>
          <p:nvPr>
            <p:ph/>
          </p:nvPr>
        </p:nvSpPr>
        <p:spPr>
          <a:xfrm>
            <a:off x="457200" y="1599840"/>
            <a:ext cx="8153280" cy="460548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ssential Question </a:t>
            </a:r>
            <a:r>
              <a:rPr b="0" lang="en-US" sz="2600" spc="-1" strike="noStrike">
                <a:solidFill>
                  <a:srgbClr val="000000"/>
                </a:solidFill>
                <a:latin typeface="Arial"/>
              </a:rPr>
              <a:t>Do all the people know the importance of plant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nit Questions</a:t>
            </a:r>
            <a:r>
              <a:rPr b="0" lang="en-US" sz="2600" spc="-1" strike="noStrike">
                <a:solidFill>
                  <a:srgbClr val="000000"/>
                </a:solidFill>
                <a:latin typeface="Arial"/>
              </a:rPr>
              <a:t> How can we teach and demonstrate the plants are important to us?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tent Questions</a:t>
            </a:r>
            <a:r>
              <a:rPr b="0" lang="en-US" sz="2600" spc="-1" strike="noStrike">
                <a:solidFill>
                  <a:srgbClr val="000000"/>
                </a:solidFill>
                <a:latin typeface="Arial"/>
              </a:rPr>
              <a:t> What are the important features of the plant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How can we use the knowledge we have about plants to have sustainable development?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ssessment Timeline </a:t>
            </a:r>
            <a:endParaRPr b="1" lang="en-US" sz="3900" spc="-1" strike="noStrike">
              <a:solidFill>
                <a:srgbClr val="330066"/>
              </a:solidFill>
              <a:latin typeface="Arial"/>
            </a:endParaRPr>
          </a:p>
        </p:txBody>
      </p:sp>
      <p:sp>
        <p:nvSpPr>
          <p:cNvPr id="17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Discussion of project typ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Dish garden/botanical garde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Group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Plann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Overview of projec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udents work on projects and complete tasks </a:t>
            </a:r>
            <a:endParaRPr b="1" lang="en-US" sz="39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Group work</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Making the dish garden/botanical garde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ilation of plan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ing the garde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fter project work is completed </a:t>
            </a:r>
            <a:endParaRPr b="1" lang="en-US" sz="39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entation of garde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vidual and Group Evaluati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ssessment Summary </a:t>
            </a:r>
            <a:endParaRPr b="1" lang="en-US" sz="3900" spc="-1" strike="noStrike">
              <a:solidFill>
                <a:srgbClr val="330066"/>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ssessments used for this unit are all process for self-engaging activities. This is also a way to be aware on the importance of plants in our community. This will also involved collaboration within a learning group. At the end of the learning experience, the learners are able to develop the values and skills that has to be seen from their collection of project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762120" y="762120"/>
            <a:ext cx="7162560" cy="5333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762120" y="838080"/>
            <a:ext cx="7086600" cy="544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762120" y="1066680"/>
            <a:ext cx="7162560" cy="5105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380880" y="977760"/>
            <a:ext cx="7543800" cy="534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nit Summary</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unit contains discussions about life and how it goes in a process. The topics are plants, animals and humans. This unit focuses on the basic functions of the topic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Unit Foundation (Targeted Content Standards and Benchmarks)</a:t>
            </a:r>
            <a:endParaRPr b="1" lang="en-US" sz="35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21st Century Skill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itical Thinking and Problem Solv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 and Collabora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tive and Self-Direction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PELC Learning Competenci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Observe the different parts of plan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1 Infer the functions of each par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9000"/>
          </a:bodyPr>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 compare plants according to observable characteristics of their parts.</a:t>
            </a:r>
            <a:endParaRPr b="0" lang="en-US" sz="3000" spc="-1" strike="noStrike">
              <a:solidFill>
                <a:srgbClr val="000000"/>
              </a:solidFill>
              <a:latin typeface="Arial"/>
            </a:endParaRPr>
          </a:p>
          <a:p>
            <a:pPr marL="339480" indent="-3394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2.1 Identify similarities and  differences of plants/plant parts as to:         </a:t>
            </a:r>
            <a:endParaRPr b="0" lang="en-US" sz="3000" spc="-1" strike="noStrike">
              <a:solidFill>
                <a:srgbClr val="000000"/>
              </a:solidFill>
              <a:latin typeface="Arial"/>
            </a:endParaRPr>
          </a:p>
          <a:p>
            <a:pPr marL="339480" indent="-3394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color, size, &amp; shape          </a:t>
            </a:r>
            <a:endParaRPr b="0" lang="en-US" sz="3000" spc="-1" strike="noStrike">
              <a:solidFill>
                <a:srgbClr val="000000"/>
              </a:solidFill>
              <a:latin typeface="Arial"/>
            </a:endParaRPr>
          </a:p>
          <a:p>
            <a:pPr marL="339480" indent="-3394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size/texture of stems/roots          </a:t>
            </a:r>
            <a:endParaRPr b="0" lang="en-US" sz="3000" spc="-1" strike="noStrike">
              <a:solidFill>
                <a:srgbClr val="000000"/>
              </a:solidFill>
              <a:latin typeface="Arial"/>
            </a:endParaRPr>
          </a:p>
          <a:p>
            <a:pPr marL="339480" indent="-3394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color, shape, size and smell of flowers          </a:t>
            </a:r>
            <a:endParaRPr b="0" lang="en-US" sz="3000" spc="-1" strike="noStrike">
              <a:solidFill>
                <a:srgbClr val="000000"/>
              </a:solidFill>
              <a:latin typeface="Arial"/>
            </a:endParaRPr>
          </a:p>
          <a:p>
            <a:pPr marL="339480" indent="-3394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texture and edges of leaves          </a:t>
            </a:r>
            <a:endParaRPr b="0" lang="en-US" sz="3000" spc="-1" strike="noStrike">
              <a:solidFill>
                <a:srgbClr val="000000"/>
              </a:solidFill>
              <a:latin typeface="Arial"/>
            </a:endParaRPr>
          </a:p>
          <a:p>
            <a:pPr marL="339480" indent="-3394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flowering and non-flower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Classify plants according to its common characteristic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g. color, size and shape of  leaves/flowers, size, texture of stem</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Infer that plants and plant parts have many us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4.1 Identify the uses of plants and their part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4.2 State that plant parts have many us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 Demonstrate ways of propagating plan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5.1 Observe how plants grow</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g from seeds, cutting stem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5.2 Identify ways of propagating plan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5.2.1 Identify plants that grow from seeds, cutting stems, leaves and roo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5.3 Describe ways of propagating pla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 Demonstrate ways of caring for and conserving plan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7. Practice precautionary measures in handling plan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8. Apply first aid treatment in cases of allergies/skin irritation caused by pla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udent Objectives/Learning Outcomes </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the end of Grade III, the learner is expected to develop functional understanding and application of science and health concepts, basic process/thinking skills, and acquire values, attitude and practices related to one’s sense organs, personal health, food, nutrition, growth and development, characteristics of plants and animals, caring for plants and animals, states of matter, heat, light and sound energy, force and motion, earth resources and their conservation, weather and the sun as source of light and he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end of this unit, the students will:</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ue and actualize the use of plants to ma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 its importance to the environmen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a program to promote the proper way to care for pla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21:39:51Z</dcterms:created>
  <dc:creator>nave1386</dc:creator>
  <dc:description/>
  <dc:language>en-US</dc:language>
  <cp:lastModifiedBy>nave1386</cp:lastModifiedBy>
  <dcterms:modified xsi:type="dcterms:W3CDTF">2010-09-20T21:41:11Z</dcterms:modified>
  <cp:revision>6</cp:revision>
  <dc:subject/>
  <dc:title>Unit Plan Presentation</dc:title>
</cp:coreProperties>
</file>